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C6B4-3F04-4C5A-A21F-A45C7302DDAC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31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34FD-58A3-43A4-A131-48B7CCE6F112}" type="slidenum"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031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0509-04ED-4FD5-9EA7-3B56BE330A5F}" type="slidenum"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1031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CCBF-7087-467A-B93A-3D78DE4E6C09}" type="slidenum"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031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704F-59E9-414E-AFE1-1D4A1BC5AA00}" type="slidenum"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031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B978-4F5A-4422-BC4E-6198E6038F55}" type="slidenum"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1031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AF2A-8271-4A36-8AFF-27FE245E2639}" type="slidenum"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031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95FB-6A13-4933-A613-2532F5B0ED45}" type="slidenum"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31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D391-39A5-4E84-B496-2DB9EFD63484}" type="slidenum"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031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D315-2737-4A7F-B258-339F2C97658C}" type="slidenum"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031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86E4-C3B8-4D5E-B810-63065AE613CA}" type="slidenum"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031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F5DC-DBF6-4315-971A-DCA4F58F24A6}" type="slidenum"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031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1385-98FC-43FB-A601-511B4DEBEA20}" type="slidenum"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031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F86F-C64B-422C-BB4E-DA2F647A2C78}" type="slidenum"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031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3E5E-A5FE-471E-8741-CB51EB74258B}" type="slidenum"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031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653F-EDAA-4F89-B714-52E7A4A028F7}" type="slidenum"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031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8D10-6FE1-4626-81B0-50DCDB99B959}" type="slidenum"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17C-F31A-4367-B415-2F3217F8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8AF9-9CA2-41E2-AF02-3CEC0775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CC7-0EAC-4110-9EC4-398C373D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F95-F0F4-4952-888B-028E5C69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A503-8734-452D-9309-F580370F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5F75-15D8-4EA7-82FF-C052E1FD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8DB0-FD6D-4630-9E15-BC59B560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FFBC-3E10-4E21-B974-6E4330AE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D744-3A3A-4513-9336-268836AB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5465-F0F6-4C3F-A1C2-29112A12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A07C-34EB-4E4D-A5EC-02D733F4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FFA-7D88-4E07-A2F4-70D40346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6D83-3CF0-4130-81D5-9EC3525C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DEC5-7BEC-45BD-8E33-427D1549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5456-1663-4FC1-B55F-338C9319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3A55-9CBF-45E0-872E-53676B1A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4A52-9953-4C16-A360-C0D04EE1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B4907-9E62-4F2B-BF97-B1EA3EBB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C65D2-6D09-4806-A514-F6D90C66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7EFA8-3916-453D-B605-D5C3BB5A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083AA-369E-4F87-AFA8-66C74EF8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33ACD-69B8-4F5D-8F39-A7B751DB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936-C064-4B10-A0F1-2F85CBAC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9C725-1B9E-4232-A114-937746D9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E7CA7-4523-4343-906C-AA53837B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CEBCD-A1D2-464C-9D64-E020320D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7189E-1079-47C2-B382-DE71D55A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7C031-5448-48CE-8BF8-543A200F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B3052-B37A-46AF-B2BC-C143A39D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4887E-A24B-4AE8-A22E-902AF948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117-8784-43F9-A8C4-AF708466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BA6-4BF8-4E67-8B82-69DCC351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B9A-AABB-4307-BF11-DC571617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D5D-4BEA-40B4-8B0F-F789EB64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818-BF86-4E6C-BB89-D53A7926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A00-F282-4F05-AC82-1FF61C0E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4AEC-6852-4F4C-B935-B6269E7B084F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43F5-1E34-4B6B-8F41-2FC9C971E525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4402-1808-4504-8DC6-29A5D7F6F7E6}" type="slidenum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ooks-worth-reading.com/cgibin/click.cgi?a=5bKC5Hc002WT6T12nmYLrxsdII2mSac&amp;isbn=0471062596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b7e7ff"/>
                </a:solidFill>
                <a:latin typeface="Arial"/>
              </a:rPr>
              <a:t>מושגים בתורת האינפורמציה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אורן שריק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ccecff"/>
                </a:solidFill>
                <a:latin typeface="Arial"/>
              </a:rPr>
              <a:t>אנטרופיה משותפת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826920" y="1197000"/>
            <a:ext cx="799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כאשר דנים בניסוי שבו נמדדים שני גדלים (שני משתנים מקריים) מרחיבים את הגדרת האנטרופיה. נניח כי ישנן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תוצאות אפשריות עבור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וכי ישנן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תוצאות אפשריות עבור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he-IL" sz="2400" spc="-1" strike="noStrike">
                <a:solidFill>
                  <a:srgbClr val="ffff00"/>
                </a:solidFill>
                <a:latin typeface="Arial"/>
              </a:rPr>
              <a:t>האנטרופיה המשותפת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מוגדרת ע"י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9"/>
          <p:cNvGrpSpPr/>
          <p:nvPr/>
        </p:nvGrpSpPr>
        <p:grpSpPr>
          <a:xfrm>
            <a:off x="905040" y="3105000"/>
            <a:ext cx="7961040" cy="3639240"/>
            <a:chOff x="905040" y="3105000"/>
            <a:chExt cx="7961040" cy="3639240"/>
          </a:xfrm>
        </p:grpSpPr>
        <mc:AlternateContent>
          <mc:Choice xmlns:a14="http://schemas.microsoft.com/office/drawing/2010/main" Requires="a14">
            <p:sp>
              <p:nvSpPr>
                <p:cNvPr id="364" name="Object 6"/>
                <p:cNvSpPr txBox="1"/>
                <p:nvPr/>
              </p:nvSpPr>
              <p:spPr>
                <a:xfrm>
                  <a:off x="905040" y="3105000"/>
                  <a:ext cx="7961040" cy="14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l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r>
                                <m:t xml:space="preserve">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65" name="Rectangle 7"/>
            <p:cNvSpPr/>
            <p:nvPr/>
          </p:nvSpPr>
          <p:spPr>
            <a:xfrm>
              <a:off x="5111640" y="5553000"/>
              <a:ext cx="162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99ffcc"/>
                  </a:solidFill>
                  <a:latin typeface="Arial"/>
                </a:rPr>
                <a:t>ההסתברות המשותפת</a:t>
              </a: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8"/>
            <p:cNvSpPr/>
            <p:nvPr/>
          </p:nvSpPr>
          <p:spPr>
            <a:xfrm flipV="1">
              <a:off x="5904000" y="4652640"/>
              <a:ext cx="0" cy="86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ccecff"/>
                </a:solidFill>
                <a:latin typeface="Arial"/>
              </a:rPr>
              <a:t>אנטרופיה מותנית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826920" y="1197000"/>
            <a:ext cx="799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Arial"/>
              </a:rPr>
              <a:t>האנטרופיה המותנית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מתארת את אי-הוודאות הממוצעת על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אשר נותרה לאחר מדידת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. היא מוגדרת ע"י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6"/>
              <p:cNvSpPr txBox="1"/>
              <p:nvPr/>
            </p:nvSpPr>
            <p:spPr>
              <a:xfrm>
                <a:off x="1042920" y="2492280"/>
                <a:ext cx="7397640" cy="375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l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l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7704000" y="42552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Arial"/>
              </a:rPr>
              <a:t>טענה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2016000" y="368280"/>
                <a:ext cx="46483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395280" y="1365120"/>
                <a:ext cx="51721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3" name="Rectangle 8"/>
          <p:cNvSpPr/>
          <p:nvPr/>
        </p:nvSpPr>
        <p:spPr>
          <a:xfrm>
            <a:off x="6985080" y="1449360"/>
            <a:ext cx="17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Arial"/>
              </a:rPr>
              <a:t>הוכחה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1619280" y="2441520"/>
                <a:ext cx="46450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3"/>
              <p:cNvSpPr txBox="1"/>
              <p:nvPr/>
            </p:nvSpPr>
            <p:spPr>
              <a:xfrm>
                <a:off x="1619280" y="3522600"/>
                <a:ext cx="73454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4"/>
              <p:cNvSpPr txBox="1"/>
              <p:nvPr/>
            </p:nvSpPr>
            <p:spPr>
              <a:xfrm>
                <a:off x="1619280" y="4624560"/>
                <a:ext cx="6877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5"/>
              <p:cNvSpPr txBox="1"/>
              <p:nvPr/>
            </p:nvSpPr>
            <p:spPr>
              <a:xfrm>
                <a:off x="1619280" y="5769000"/>
                <a:ext cx="27367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ccecff"/>
                </a:solidFill>
                <a:latin typeface="Arial"/>
              </a:rPr>
              <a:t>אינפורמציה משותפת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79" name="Group 12"/>
          <p:cNvGrpSpPr/>
          <p:nvPr/>
        </p:nvGrpSpPr>
        <p:grpSpPr>
          <a:xfrm>
            <a:off x="3846600" y="1413000"/>
            <a:ext cx="5141880" cy="825480"/>
            <a:chOff x="3846600" y="1413000"/>
            <a:chExt cx="5141880" cy="825480"/>
          </a:xfrm>
        </p:grpSpPr>
        <p:sp>
          <p:nvSpPr>
            <p:cNvPr id="380" name="Rectangle 5"/>
            <p:cNvSpPr/>
            <p:nvPr/>
          </p:nvSpPr>
          <p:spPr>
            <a:xfrm>
              <a:off x="3846600" y="1413000"/>
              <a:ext cx="385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- אי-הוודאות הממוצעת על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r>
                <a:rPr b="0" lang="he-IL" sz="2400" spc="-1" strike="noStrike">
                  <a:solidFill>
                    <a:srgbClr val="ffff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Object 6"/>
                <p:cNvSpPr txBox="1"/>
                <p:nvPr/>
              </p:nvSpPr>
              <p:spPr>
                <a:xfrm>
                  <a:off x="7962840" y="1413000"/>
                  <a:ext cx="102564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2" name="Group 13"/>
          <p:cNvGrpSpPr/>
          <p:nvPr/>
        </p:nvGrpSpPr>
        <p:grpSpPr>
          <a:xfrm>
            <a:off x="415800" y="2208240"/>
            <a:ext cx="8572680" cy="876240"/>
            <a:chOff x="415800" y="2208240"/>
            <a:chExt cx="8572680" cy="876240"/>
          </a:xfrm>
        </p:grpSpPr>
        <p:sp>
          <p:nvSpPr>
            <p:cNvPr id="383" name="Rectangle 7"/>
            <p:cNvSpPr/>
            <p:nvPr/>
          </p:nvSpPr>
          <p:spPr>
            <a:xfrm>
              <a:off x="415800" y="2259000"/>
              <a:ext cx="7023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- אי-הוודאות הממוצעת על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 אשר נותרה לאחר מדידת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8"/>
                <p:cNvSpPr txBox="1"/>
                <p:nvPr/>
              </p:nvSpPr>
              <p:spPr>
                <a:xfrm>
                  <a:off x="7518240" y="2208240"/>
                  <a:ext cx="147024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|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5" name="Group 14"/>
          <p:cNvGrpSpPr/>
          <p:nvPr/>
        </p:nvGrpSpPr>
        <p:grpSpPr>
          <a:xfrm>
            <a:off x="1440000" y="3200400"/>
            <a:ext cx="7548480" cy="684360"/>
            <a:chOff x="1440000" y="3200400"/>
            <a:chExt cx="7548480" cy="684360"/>
          </a:xfrm>
        </p:grpSpPr>
        <mc:AlternateContent>
          <mc:Choice xmlns:a14="http://schemas.microsoft.com/office/drawing/2010/main" Requires="a14">
            <p:sp>
              <p:nvSpPr>
                <p:cNvPr id="386" name="Object 9"/>
                <p:cNvSpPr txBox="1"/>
                <p:nvPr/>
              </p:nvSpPr>
              <p:spPr>
                <a:xfrm>
                  <a:off x="6254640" y="3200400"/>
                  <a:ext cx="273384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|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7" name="Rectangle 10"/>
            <p:cNvSpPr/>
            <p:nvPr/>
          </p:nvSpPr>
          <p:spPr>
            <a:xfrm>
              <a:off x="1440000" y="3249720"/>
              <a:ext cx="46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- המידע שנתקבל על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 ממדידת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8" name="Object 11"/>
              <p:cNvSpPr txBox="1"/>
              <p:nvPr/>
            </p:nvSpPr>
            <p:spPr>
              <a:xfrm>
                <a:off x="2023920" y="4770360"/>
                <a:ext cx="53992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Rectangle 15"/>
          <p:cNvSpPr/>
          <p:nvPr/>
        </p:nvSpPr>
        <p:spPr>
          <a:xfrm>
            <a:off x="960480" y="4149720"/>
            <a:ext cx="79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מגדירים את</a:t>
            </a:r>
            <a:r>
              <a:rPr b="1" lang="he-IL" sz="2400" spc="-1" strike="noStrike">
                <a:solidFill>
                  <a:srgbClr val="ffff00"/>
                </a:solidFill>
                <a:latin typeface="Arial"/>
              </a:rPr>
              <a:t> האינפורמציה המשותפת 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בין</a:t>
            </a:r>
            <a:r>
              <a:rPr b="1" lang="he-I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he-I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ל-</a:t>
            </a:r>
            <a:r>
              <a:rPr b="1" lang="he-I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ע"י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17"/>
          <p:cNvGrpSpPr/>
          <p:nvPr/>
        </p:nvGrpSpPr>
        <p:grpSpPr>
          <a:xfrm>
            <a:off x="922320" y="1023840"/>
            <a:ext cx="7935840" cy="2244960"/>
            <a:chOff x="922320" y="1023840"/>
            <a:chExt cx="7935840" cy="2244960"/>
          </a:xfrm>
        </p:grpSpPr>
        <p:sp>
          <p:nvSpPr>
            <p:cNvPr id="391" name="Rectangle 5"/>
            <p:cNvSpPr/>
            <p:nvPr/>
          </p:nvSpPr>
          <p:spPr>
            <a:xfrm>
              <a:off x="6588000" y="1023840"/>
              <a:ext cx="227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ניתן להראות כי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2" name="Object 7"/>
                <p:cNvSpPr txBox="1"/>
                <p:nvPr/>
              </p:nvSpPr>
              <p:spPr>
                <a:xfrm>
                  <a:off x="922320" y="1317600"/>
                  <a:ext cx="5843520" cy="195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|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3" name="Group 11"/>
          <p:cNvGrpSpPr/>
          <p:nvPr/>
        </p:nvGrpSpPr>
        <p:grpSpPr>
          <a:xfrm>
            <a:off x="1000080" y="3335400"/>
            <a:ext cx="7848360" cy="1770120"/>
            <a:chOff x="1000080" y="3335400"/>
            <a:chExt cx="7848360" cy="1770120"/>
          </a:xfrm>
        </p:grpSpPr>
        <p:sp>
          <p:nvSpPr>
            <p:cNvPr id="394" name="Rectangle 9"/>
            <p:cNvSpPr/>
            <p:nvPr/>
          </p:nvSpPr>
          <p:spPr>
            <a:xfrm>
              <a:off x="6578280" y="3335400"/>
              <a:ext cx="227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וכמו-כן כי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Object 10"/>
                <p:cNvSpPr txBox="1"/>
                <p:nvPr/>
              </p:nvSpPr>
              <p:spPr>
                <a:xfrm>
                  <a:off x="1000080" y="3971880"/>
                  <a:ext cx="6372000" cy="113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l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r>
                                <m:t xml:space="preserve">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f>
                                <m:num>
                                  <m:r>
                                    <m:t xml:space="preserve">p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,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l</m:t>
                                          </m:r>
                                        </m:sub>
                                      </m:sSub>
                                    </m:e>
                                  </m:d>
                                </m:num>
                                <m:den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den>
                              </m:f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ccecff"/>
                </a:solidFill>
                <a:latin typeface="Arial"/>
              </a:rPr>
              <a:t>תכונות האינפורמציה המשותפת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97" name="Group 18"/>
          <p:cNvGrpSpPr/>
          <p:nvPr/>
        </p:nvGrpSpPr>
        <p:grpSpPr>
          <a:xfrm>
            <a:off x="1444680" y="5486400"/>
            <a:ext cx="7416720" cy="558720"/>
            <a:chOff x="1444680" y="5486400"/>
            <a:chExt cx="7416720" cy="558720"/>
          </a:xfrm>
        </p:grpSpPr>
        <p:sp>
          <p:nvSpPr>
            <p:cNvPr id="398" name="Rectangle 15"/>
            <p:cNvSpPr/>
            <p:nvPr/>
          </p:nvSpPr>
          <p:spPr>
            <a:xfrm>
              <a:off x="4287960" y="5486400"/>
              <a:ext cx="45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האינפורמציה המשותפת סימטרית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9" name="Object 16"/>
                <p:cNvSpPr txBox="1"/>
                <p:nvPr/>
              </p:nvSpPr>
              <p:spPr>
                <a:xfrm>
                  <a:off x="1444680" y="5497560"/>
                  <a:ext cx="300672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9840" y="33480"/>
            <a:ext cx="8920440" cy="73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ccecff"/>
                </a:solidFill>
                <a:latin typeface="Arial"/>
              </a:rPr>
              <a:t>היחס בין אנטרופיה ואינפורמציה משותפת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Oval 5"/>
          <p:cNvSpPr/>
          <p:nvPr/>
        </p:nvSpPr>
        <p:spPr>
          <a:xfrm>
            <a:off x="1800360" y="2241720"/>
            <a:ext cx="3476520" cy="39589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6"/>
          <p:cNvSpPr/>
          <p:nvPr/>
        </p:nvSpPr>
        <p:spPr>
          <a:xfrm>
            <a:off x="3892680" y="1844640"/>
            <a:ext cx="3632040" cy="4430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8"/>
              <p:cNvSpPr txBox="1"/>
              <p:nvPr/>
            </p:nvSpPr>
            <p:spPr>
              <a:xfrm>
                <a:off x="3897360" y="3741840"/>
                <a:ext cx="1305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9"/>
              <p:cNvSpPr txBox="1"/>
              <p:nvPr/>
            </p:nvSpPr>
            <p:spPr>
              <a:xfrm>
                <a:off x="5703840" y="3676680"/>
                <a:ext cx="14018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0"/>
              <p:cNvSpPr txBox="1"/>
              <p:nvPr/>
            </p:nvSpPr>
            <p:spPr>
              <a:xfrm>
                <a:off x="2222640" y="3676680"/>
                <a:ext cx="14032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11"/>
              <p:cNvSpPr txBox="1"/>
              <p:nvPr/>
            </p:nvSpPr>
            <p:spPr>
              <a:xfrm>
                <a:off x="3527280" y="1125360"/>
                <a:ext cx="1468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Line 12"/>
          <p:cNvSpPr/>
          <p:nvPr/>
        </p:nvSpPr>
        <p:spPr>
          <a:xfrm>
            <a:off x="4464000" y="1700280"/>
            <a:ext cx="43200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13"/>
          <p:cNvSpPr/>
          <p:nvPr/>
        </p:nvSpPr>
        <p:spPr>
          <a:xfrm flipH="1">
            <a:off x="3816360" y="1700280"/>
            <a:ext cx="64944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14"/>
              <p:cNvSpPr txBox="1"/>
              <p:nvPr/>
            </p:nvSpPr>
            <p:spPr>
              <a:xfrm>
                <a:off x="698400" y="5902200"/>
                <a:ext cx="10778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Line 15"/>
          <p:cNvSpPr/>
          <p:nvPr/>
        </p:nvSpPr>
        <p:spPr>
          <a:xfrm flipV="1">
            <a:off x="1476360" y="5418000"/>
            <a:ext cx="560520" cy="387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16"/>
              <p:cNvSpPr txBox="1"/>
              <p:nvPr/>
            </p:nvSpPr>
            <p:spPr>
              <a:xfrm>
                <a:off x="7461360" y="5970600"/>
                <a:ext cx="9777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Line 17"/>
          <p:cNvSpPr/>
          <p:nvPr/>
        </p:nvSpPr>
        <p:spPr>
          <a:xfrm flipH="1" flipV="1">
            <a:off x="7308720" y="5408280"/>
            <a:ext cx="611280" cy="539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ccecff"/>
                </a:solidFill>
                <a:latin typeface="Arial"/>
              </a:rPr>
              <a:t>מקורות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19280" y="1484280"/>
            <a:ext cx="79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 E. Shannon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athematical Theory of Communic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ll System Tech Journ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vol. 27, pp. 379-423 and 623-656, July and October, 1948.  (the original paper on information theory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8">
            <a:hlinkClick r:id="rId1"/>
          </p:cNvPr>
          <p:cNvSpPr/>
          <p:nvPr/>
        </p:nvSpPr>
        <p:spPr>
          <a:xfrm>
            <a:off x="8861400" y="33004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792000" y="2852640"/>
            <a:ext cx="68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. M. Cover and J. A. Thomas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lements of Information Theo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1991.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d., John Wiley and S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10" descr="CoverThomas"/>
          <p:cNvPicPr/>
          <p:nvPr/>
        </p:nvPicPr>
        <p:blipFill>
          <a:blip r:embed="rId2"/>
          <a:stretch/>
        </p:blipFill>
        <p:spPr>
          <a:xfrm>
            <a:off x="7704000" y="2565360"/>
            <a:ext cx="952560" cy="14572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11"/>
          <p:cNvSpPr/>
          <p:nvPr/>
        </p:nvSpPr>
        <p:spPr>
          <a:xfrm>
            <a:off x="1835280" y="443700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800" spc="-1" strike="noStrike">
                <a:solidFill>
                  <a:srgbClr val="ffff00"/>
                </a:solidFill>
                <a:latin typeface="Arial"/>
              </a:rPr>
              <a:t>מערכי שיעור של פרופ' נפתלי תשבי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 מהאוניברסיטה העברית (נערכו ע"י לידרור טרוינסקי וגל צ'צ'יק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93520" y="398520"/>
            <a:ext cx="752004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ccecff"/>
                </a:solidFill>
                <a:latin typeface="Arial"/>
              </a:rPr>
              <a:t>הגדרת הבעיה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2" name="Group 21"/>
          <p:cNvGrpSpPr/>
          <p:nvPr/>
        </p:nvGrpSpPr>
        <p:grpSpPr>
          <a:xfrm>
            <a:off x="719280" y="2932200"/>
            <a:ext cx="8065800" cy="1038240"/>
            <a:chOff x="719280" y="2932200"/>
            <a:chExt cx="8065800" cy="1038240"/>
          </a:xfrm>
        </p:grpSpPr>
        <p:sp>
          <p:nvSpPr>
            <p:cNvPr id="263" name="Rectangle 7"/>
            <p:cNvSpPr/>
            <p:nvPr/>
          </p:nvSpPr>
          <p:spPr>
            <a:xfrm>
              <a:off x="4392720" y="3189240"/>
              <a:ext cx="43923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ההסתברות לתוצאה ה-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 היא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12"/>
                <p:cNvSpPr txBox="1"/>
                <p:nvPr/>
              </p:nvSpPr>
              <p:spPr>
                <a:xfrm>
                  <a:off x="719280" y="2932200"/>
                  <a:ext cx="316836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5" name="Group 20"/>
          <p:cNvGrpSpPr/>
          <p:nvPr/>
        </p:nvGrpSpPr>
        <p:grpSpPr>
          <a:xfrm>
            <a:off x="882720" y="4221000"/>
            <a:ext cx="7902360" cy="2000520"/>
            <a:chOff x="882720" y="4221000"/>
            <a:chExt cx="7902360" cy="2000520"/>
          </a:xfrm>
        </p:grpSpPr>
        <p:sp>
          <p:nvSpPr>
            <p:cNvPr id="266" name="Rectangle 13"/>
            <p:cNvSpPr/>
            <p:nvPr/>
          </p:nvSpPr>
          <p:spPr>
            <a:xfrm>
              <a:off x="4392720" y="4221000"/>
              <a:ext cx="439236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ההסתברות מקיימת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7" name="Group 19"/>
            <p:cNvGrpSpPr/>
            <p:nvPr/>
          </p:nvGrpSpPr>
          <p:grpSpPr>
            <a:xfrm>
              <a:off x="882720" y="4444920"/>
              <a:ext cx="6676920" cy="1776600"/>
              <a:chOff x="882720" y="4444920"/>
              <a:chExt cx="6676920" cy="1776600"/>
            </a:xfrm>
          </p:grpSpPr>
          <mc:AlternateContent>
            <mc:Choice xmlns:a14="http://schemas.microsoft.com/office/drawing/2010/main" Requires="a14">
              <p:sp>
                <p:nvSpPr>
                  <p:cNvPr id="268" name="Object 16"/>
                  <p:cNvSpPr txBox="1"/>
                  <p:nvPr/>
                </p:nvSpPr>
                <p:spPr>
                  <a:xfrm>
                    <a:off x="882720" y="4444920"/>
                    <a:ext cx="2452680" cy="177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69" name="Object 17"/>
                  <p:cNvSpPr txBox="1"/>
                  <p:nvPr/>
                </p:nvSpPr>
                <p:spPr>
                  <a:xfrm>
                    <a:off x="4948200" y="4862520"/>
                    <a:ext cx="2611440" cy="94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0" name="Rectangle 18"/>
              <p:cNvSpPr/>
              <p:nvPr/>
            </p:nvSpPr>
            <p:spPr>
              <a:xfrm>
                <a:off x="3988080" y="5072040"/>
                <a:ext cx="468000" cy="61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r" rtl="1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800" spc="-1" strike="noStrike">
                    <a:solidFill>
                      <a:srgbClr val="ffffff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Group 23"/>
          <p:cNvGrpSpPr/>
          <p:nvPr/>
        </p:nvGrpSpPr>
        <p:grpSpPr>
          <a:xfrm>
            <a:off x="1015920" y="1376280"/>
            <a:ext cx="7769160" cy="1419480"/>
            <a:chOff x="1015920" y="1376280"/>
            <a:chExt cx="7769160" cy="1419480"/>
          </a:xfrm>
        </p:grpSpPr>
        <mc:AlternateContent>
          <mc:Choice xmlns:a14="http://schemas.microsoft.com/office/drawing/2010/main" Requires="a14">
            <p:sp>
              <p:nvSpPr>
                <p:cNvPr id="272" name="Object 5"/>
                <p:cNvSpPr txBox="1"/>
                <p:nvPr/>
              </p:nvSpPr>
              <p:spPr>
                <a:xfrm>
                  <a:off x="1015920" y="1866960"/>
                  <a:ext cx="3094200" cy="92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3" name="Text Box 22"/>
            <p:cNvSpPr/>
            <p:nvPr/>
          </p:nvSpPr>
          <p:spPr>
            <a:xfrm>
              <a:off x="2305080" y="1376280"/>
              <a:ext cx="64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נניח כי אנו מבצעים ניסוי עם </a:t>
              </a: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N</a:t>
              </a: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 תוצאות אפשריו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22500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ccecff"/>
                </a:solidFill>
                <a:latin typeface="Arial"/>
              </a:rPr>
              <a:t>מהי האינפורמציה שמתקבלת במדידה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2987640" y="2924280"/>
            <a:ext cx="54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ניסוחים שקולים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מהי אי-הוודאות שמוסרת בקבלת הידיעה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מהי מידת ההפתעה בקבלת הידיעה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Group 19"/>
          <p:cNvGrpSpPr/>
          <p:nvPr/>
        </p:nvGrpSpPr>
        <p:grpSpPr>
          <a:xfrm>
            <a:off x="2916360" y="4653000"/>
            <a:ext cx="5437080" cy="825480"/>
            <a:chOff x="2916360" y="4653000"/>
            <a:chExt cx="5437080" cy="825480"/>
          </a:xfrm>
        </p:grpSpPr>
        <p:sp>
          <p:nvSpPr>
            <p:cNvPr id="277" name="Rectangle 9"/>
            <p:cNvSpPr/>
            <p:nvPr/>
          </p:nvSpPr>
          <p:spPr>
            <a:xfrm>
              <a:off x="2916360" y="4653000"/>
              <a:ext cx="543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למשל, אם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מידת ההפתעה היא אפס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Object 16"/>
                <p:cNvSpPr txBox="1"/>
                <p:nvPr/>
              </p:nvSpPr>
              <p:spPr>
                <a:xfrm>
                  <a:off x="5400720" y="4653000"/>
                  <a:ext cx="136836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Group 21"/>
          <p:cNvGrpSpPr/>
          <p:nvPr/>
        </p:nvGrpSpPr>
        <p:grpSpPr>
          <a:xfrm>
            <a:off x="2987640" y="1305000"/>
            <a:ext cx="5400720" cy="1123920"/>
            <a:chOff x="2987640" y="1305000"/>
            <a:chExt cx="5400720" cy="1123920"/>
          </a:xfrm>
        </p:grpSpPr>
        <p:grpSp>
          <p:nvGrpSpPr>
            <p:cNvPr id="280" name="Group 18"/>
            <p:cNvGrpSpPr/>
            <p:nvPr/>
          </p:nvGrpSpPr>
          <p:grpSpPr>
            <a:xfrm>
              <a:off x="2987640" y="1305000"/>
              <a:ext cx="5400720" cy="1123920"/>
              <a:chOff x="2987640" y="1305000"/>
              <a:chExt cx="5400720" cy="1123920"/>
            </a:xfrm>
          </p:grpSpPr>
          <mc:AlternateContent>
            <mc:Choice xmlns:a14="http://schemas.microsoft.com/office/drawing/2010/main" Requires="a14">
              <p:sp>
                <p:nvSpPr>
                  <p:cNvPr id="281" name="Object 6"/>
                  <p:cNvSpPr txBox="1"/>
                  <p:nvPr/>
                </p:nvSpPr>
                <p:spPr>
                  <a:xfrm>
                    <a:off x="3600360" y="1305000"/>
                    <a:ext cx="530280" cy="682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2" name="Text Box 5"/>
              <p:cNvSpPr/>
              <p:nvPr/>
            </p:nvSpPr>
            <p:spPr>
              <a:xfrm>
                <a:off x="2987640" y="1413000"/>
                <a:ext cx="5400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ffff"/>
                    </a:solidFill>
                    <a:latin typeface="Arial"/>
                  </a:rPr>
                  <a:t>נניח כי ביצענו ניסוי והתוצאה הייתה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ffff"/>
                    </a:solidFill>
                    <a:latin typeface="Arial"/>
                  </a:rPr>
                  <a:t>כמה אינפורמציה קיבלנו מידיעה זו?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20"/>
            <p:cNvSpPr/>
            <p:nvPr/>
          </p:nvSpPr>
          <p:spPr>
            <a:xfrm>
              <a:off x="3348000" y="14493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4" name="Object 8"/>
              <p:cNvSpPr txBox="1"/>
              <p:nvPr/>
            </p:nvSpPr>
            <p:spPr>
              <a:xfrm>
                <a:off x="2546280" y="1700280"/>
                <a:ext cx="4272120" cy="28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ccecff"/>
                </a:solidFill>
                <a:latin typeface="Arial"/>
              </a:rPr>
              <a:t>ההצעה של שאנון למדד לאינפורמציה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619280" y="5192640"/>
            <a:ext cx="612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כאשר עובדים עם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לפי בסיס 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היחידות הן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bits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וכאשר עובדים עם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n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היחידות הן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ats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73040" y="2142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ccecff"/>
                </a:solidFill>
                <a:latin typeface="Arial"/>
              </a:rPr>
              <a:t>תכונות האינפורמציה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8" name="Group 26"/>
          <p:cNvGrpSpPr/>
          <p:nvPr/>
        </p:nvGrpSpPr>
        <p:grpSpPr>
          <a:xfrm>
            <a:off x="2987640" y="1197000"/>
            <a:ext cx="5798880" cy="774360"/>
            <a:chOff x="2987640" y="1197000"/>
            <a:chExt cx="5798880" cy="774360"/>
          </a:xfrm>
        </p:grpSpPr>
        <p:sp>
          <p:nvSpPr>
            <p:cNvPr id="289" name="Text Box 6"/>
            <p:cNvSpPr/>
            <p:nvPr/>
          </p:nvSpPr>
          <p:spPr>
            <a:xfrm>
              <a:off x="4717800" y="1298520"/>
              <a:ext cx="9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עבור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12"/>
                <p:cNvSpPr txBox="1"/>
                <p:nvPr/>
              </p:nvSpPr>
              <p:spPr>
                <a:xfrm>
                  <a:off x="5962320" y="1197000"/>
                  <a:ext cx="201636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1" name="Text Box 14"/>
            <p:cNvSpPr/>
            <p:nvPr/>
          </p:nvSpPr>
          <p:spPr>
            <a:xfrm>
              <a:off x="8173800" y="129852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Object 15"/>
                <p:cNvSpPr txBox="1"/>
                <p:nvPr/>
              </p:nvSpPr>
              <p:spPr>
                <a:xfrm>
                  <a:off x="2987640" y="1198440"/>
                  <a:ext cx="13730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3" name="Group 25"/>
          <p:cNvGrpSpPr/>
          <p:nvPr/>
        </p:nvGrpSpPr>
        <p:grpSpPr>
          <a:xfrm>
            <a:off x="2600280" y="2870280"/>
            <a:ext cx="6186240" cy="774720"/>
            <a:chOff x="2600280" y="2870280"/>
            <a:chExt cx="6186240" cy="774720"/>
          </a:xfrm>
        </p:grpSpPr>
        <p:sp>
          <p:nvSpPr>
            <p:cNvPr id="294" name="Text Box 16"/>
            <p:cNvSpPr/>
            <p:nvPr/>
          </p:nvSpPr>
          <p:spPr>
            <a:xfrm>
              <a:off x="4717800" y="2971800"/>
              <a:ext cx="9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עבור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Object 17"/>
                <p:cNvSpPr txBox="1"/>
                <p:nvPr/>
              </p:nvSpPr>
              <p:spPr>
                <a:xfrm>
                  <a:off x="5962320" y="2870280"/>
                  <a:ext cx="201636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Text Box 18"/>
            <p:cNvSpPr/>
            <p:nvPr/>
          </p:nvSpPr>
          <p:spPr>
            <a:xfrm>
              <a:off x="8173800" y="297180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7" name="Object 19"/>
                <p:cNvSpPr txBox="1"/>
                <p:nvPr/>
              </p:nvSpPr>
              <p:spPr>
                <a:xfrm>
                  <a:off x="2600280" y="2871720"/>
                  <a:ext cx="21445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8" name="Group 29"/>
          <p:cNvGrpSpPr/>
          <p:nvPr/>
        </p:nvGrpSpPr>
        <p:grpSpPr>
          <a:xfrm>
            <a:off x="2809800" y="4545000"/>
            <a:ext cx="5977080" cy="849240"/>
            <a:chOff x="2809800" y="4545000"/>
            <a:chExt cx="5977080" cy="849240"/>
          </a:xfrm>
        </p:grpSpPr>
        <p:sp>
          <p:nvSpPr>
            <p:cNvPr id="299" name="Text Box 20"/>
            <p:cNvSpPr/>
            <p:nvPr/>
          </p:nvSpPr>
          <p:spPr>
            <a:xfrm>
              <a:off x="4484520" y="4728960"/>
              <a:ext cx="9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עבור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21"/>
                <p:cNvSpPr txBox="1"/>
                <p:nvPr/>
              </p:nvSpPr>
              <p:spPr>
                <a:xfrm>
                  <a:off x="5576760" y="4621320"/>
                  <a:ext cx="278928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&gt;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Text Box 22"/>
            <p:cNvSpPr/>
            <p:nvPr/>
          </p:nvSpPr>
          <p:spPr>
            <a:xfrm>
              <a:off x="8173800" y="4722840"/>
              <a:ext cx="6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23"/>
                <p:cNvSpPr txBox="1"/>
                <p:nvPr/>
              </p:nvSpPr>
              <p:spPr>
                <a:xfrm>
                  <a:off x="2809800" y="4545000"/>
                  <a:ext cx="16304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&lt;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3" name="Rectangle 30"/>
          <p:cNvSpPr/>
          <p:nvPr/>
        </p:nvSpPr>
        <p:spPr>
          <a:xfrm>
            <a:off x="684360" y="1925640"/>
            <a:ext cx="758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אם בטוחים לגבי התרחשות מאורע, לא מתקבלת כל אינפורמציה כשהוא קורה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31"/>
          <p:cNvSpPr/>
          <p:nvPr/>
        </p:nvSpPr>
        <p:spPr>
          <a:xfrm>
            <a:off x="968400" y="3789360"/>
            <a:ext cx="73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התרחשות מאורע אף פעם לא תגרום להפסד אינפורמציה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32"/>
          <p:cNvSpPr/>
          <p:nvPr/>
        </p:nvSpPr>
        <p:spPr>
          <a:xfrm>
            <a:off x="752400" y="5408640"/>
            <a:ext cx="751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ככל שלמאורע הסתברות נמוכה יותר, כך מתקבלת אינפורמציה גדולה יותר בהתרחשותו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73040" y="150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ccecff"/>
                </a:solidFill>
                <a:latin typeface="Arial"/>
              </a:rPr>
              <a:t>אנטרופיה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07" name="Group 27"/>
          <p:cNvGrpSpPr/>
          <p:nvPr/>
        </p:nvGrpSpPr>
        <p:grpSpPr>
          <a:xfrm>
            <a:off x="361800" y="838080"/>
            <a:ext cx="8510760" cy="1063800"/>
            <a:chOff x="361800" y="838080"/>
            <a:chExt cx="8510760" cy="1063800"/>
          </a:xfrm>
        </p:grpSpPr>
        <p:sp>
          <p:nvSpPr>
            <p:cNvPr id="308" name="Text Box 7"/>
            <p:cNvSpPr/>
            <p:nvPr/>
          </p:nvSpPr>
          <p:spPr>
            <a:xfrm>
              <a:off x="944640" y="1076400"/>
              <a:ext cx="489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היא בעצמה משתנה מקרי עם הסתברו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Object 8"/>
                <p:cNvSpPr txBox="1"/>
                <p:nvPr/>
              </p:nvSpPr>
              <p:spPr>
                <a:xfrm>
                  <a:off x="5832360" y="966960"/>
                  <a:ext cx="124308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0" name="Text Box 9"/>
            <p:cNvSpPr/>
            <p:nvPr/>
          </p:nvSpPr>
          <p:spPr>
            <a:xfrm>
              <a:off x="7143840" y="1076400"/>
              <a:ext cx="172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האינפורמציה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" name="Object 10"/>
                <p:cNvSpPr txBox="1"/>
                <p:nvPr/>
              </p:nvSpPr>
              <p:spPr>
                <a:xfrm>
                  <a:off x="361800" y="838080"/>
                  <a:ext cx="64476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2" name="Group 25"/>
          <p:cNvGrpSpPr/>
          <p:nvPr/>
        </p:nvGrpSpPr>
        <p:grpSpPr>
          <a:xfrm>
            <a:off x="684360" y="1728720"/>
            <a:ext cx="8172360" cy="2050560"/>
            <a:chOff x="684360" y="1728720"/>
            <a:chExt cx="8172360" cy="2050560"/>
          </a:xfrm>
        </p:grpSpPr>
        <p:grpSp>
          <p:nvGrpSpPr>
            <p:cNvPr id="313" name="Group 22"/>
            <p:cNvGrpSpPr/>
            <p:nvPr/>
          </p:nvGrpSpPr>
          <p:grpSpPr>
            <a:xfrm>
              <a:off x="684360" y="1728720"/>
              <a:ext cx="8172360" cy="917640"/>
              <a:chOff x="684360" y="1728720"/>
              <a:chExt cx="8172360" cy="917640"/>
            </a:xfrm>
          </p:grpSpPr>
          <p:sp>
            <p:nvSpPr>
              <p:cNvPr id="314" name="Rectangle 12"/>
              <p:cNvSpPr/>
              <p:nvPr/>
            </p:nvSpPr>
            <p:spPr>
              <a:xfrm>
                <a:off x="5975280" y="1820880"/>
                <a:ext cx="2881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ffff"/>
                    </a:solidFill>
                    <a:latin typeface="Arial"/>
                  </a:rPr>
                  <a:t>התוחלת (הממוצע) של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5" name="Object 13"/>
                  <p:cNvSpPr txBox="1"/>
                  <p:nvPr/>
                </p:nvSpPr>
                <p:spPr>
                  <a:xfrm>
                    <a:off x="4716360" y="1728720"/>
                    <a:ext cx="1243080" cy="77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6" name="Rectangle 15"/>
              <p:cNvSpPr/>
              <p:nvPr/>
            </p:nvSpPr>
            <p:spPr>
              <a:xfrm>
                <a:off x="684360" y="1822680"/>
                <a:ext cx="396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ffff"/>
                    </a:solidFill>
                    <a:latin typeface="Arial"/>
                  </a:rPr>
                  <a:t>נקראת </a:t>
                </a:r>
                <a:r>
                  <a:rPr b="1" lang="he-IL" sz="2400" spc="-1" strike="noStrike">
                    <a:solidFill>
                      <a:srgbClr val="ffff00"/>
                    </a:solidFill>
                    <a:latin typeface="Arial"/>
                  </a:rPr>
                  <a:t>האנטרופיה</a:t>
                </a:r>
                <a:r>
                  <a:rPr b="0" lang="he-IL" sz="2400" spc="-1" strike="noStrike">
                    <a:solidFill>
                      <a:srgbClr val="ffffff"/>
                    </a:solidFill>
                    <a:latin typeface="Arial"/>
                  </a:rPr>
                  <a:t> של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3"/>
            <p:cNvGrpSpPr/>
            <p:nvPr/>
          </p:nvGrpSpPr>
          <p:grpSpPr>
            <a:xfrm>
              <a:off x="965160" y="2630520"/>
              <a:ext cx="7891560" cy="914400"/>
              <a:chOff x="965160" y="2630520"/>
              <a:chExt cx="7891560" cy="914400"/>
            </a:xfrm>
          </p:grpSpPr>
          <p:sp>
            <p:nvSpPr>
              <p:cNvPr id="318" name="Rectangle 17"/>
              <p:cNvSpPr/>
              <p:nvPr/>
            </p:nvSpPr>
            <p:spPr>
              <a:xfrm>
                <a:off x="6624720" y="2719440"/>
                <a:ext cx="223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ffff"/>
                    </a:solidFill>
                    <a:latin typeface="Arial"/>
                  </a:rPr>
                  <a:t>המשתנה המקרי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9" name="Object 18"/>
                  <p:cNvSpPr txBox="1"/>
                  <p:nvPr/>
                </p:nvSpPr>
                <p:spPr>
                  <a:xfrm>
                    <a:off x="6120000" y="2630520"/>
                    <a:ext cx="599760" cy="55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0" name="Rectangle 19"/>
              <p:cNvSpPr/>
              <p:nvPr/>
            </p:nvSpPr>
            <p:spPr>
              <a:xfrm>
                <a:off x="965160" y="2719440"/>
                <a:ext cx="5148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ffff"/>
                    </a:solidFill>
                    <a:latin typeface="Arial"/>
                  </a:rPr>
                  <a:t>.  זוהי האינפורמציה הממוצעת שמועברת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1" name="Rectangle 20"/>
            <p:cNvSpPr/>
            <p:nvPr/>
          </p:nvSpPr>
          <p:spPr>
            <a:xfrm>
              <a:off x="6624720" y="331956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בכל ידיעה: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2" name="Object 24"/>
              <p:cNvSpPr txBox="1"/>
              <p:nvPr/>
            </p:nvSpPr>
            <p:spPr>
              <a:xfrm>
                <a:off x="826920" y="3645000"/>
                <a:ext cx="6013440" cy="29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3" name="Rectangle 26"/>
          <p:cNvSpPr/>
          <p:nvPr/>
        </p:nvSpPr>
        <p:spPr>
          <a:xfrm>
            <a:off x="171360" y="10810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ccecff"/>
                </a:solidFill>
                <a:latin typeface="Arial"/>
              </a:rPr>
              <a:t>חסם תחתון ועליון לאנטרופיה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5"/>
              <p:cNvSpPr txBox="1"/>
              <p:nvPr/>
            </p:nvSpPr>
            <p:spPr>
              <a:xfrm>
                <a:off x="1476360" y="1592280"/>
                <a:ext cx="43909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Rectangle 6"/>
          <p:cNvSpPr/>
          <p:nvPr/>
        </p:nvSpPr>
        <p:spPr>
          <a:xfrm>
            <a:off x="5759280" y="1233360"/>
            <a:ext cx="30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האנטרופיה חסומה ע"י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Group 20"/>
          <p:cNvGrpSpPr/>
          <p:nvPr/>
        </p:nvGrpSpPr>
        <p:grpSpPr>
          <a:xfrm>
            <a:off x="684360" y="3067200"/>
            <a:ext cx="8099280" cy="1582560"/>
            <a:chOff x="684360" y="3067200"/>
            <a:chExt cx="8099280" cy="1582560"/>
          </a:xfrm>
        </p:grpSpPr>
        <p:sp>
          <p:nvSpPr>
            <p:cNvPr id="328" name="Rectangle 7"/>
            <p:cNvSpPr/>
            <p:nvPr/>
          </p:nvSpPr>
          <p:spPr>
            <a:xfrm>
              <a:off x="4756320" y="3181320"/>
              <a:ext cx="150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אם ורק א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Object 8"/>
                <p:cNvSpPr txBox="1"/>
                <p:nvPr/>
              </p:nvSpPr>
              <p:spPr>
                <a:xfrm>
                  <a:off x="6335640" y="3137040"/>
                  <a:ext cx="19447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0" name="Rectangle 9"/>
            <p:cNvSpPr/>
            <p:nvPr/>
          </p:nvSpPr>
          <p:spPr>
            <a:xfrm>
              <a:off x="8172360" y="3181320"/>
              <a:ext cx="6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buClr>
                  <a:srgbClr val="ffffff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1" name="Object 10"/>
                <p:cNvSpPr txBox="1"/>
                <p:nvPr/>
              </p:nvSpPr>
              <p:spPr>
                <a:xfrm>
                  <a:off x="3205080" y="3067200"/>
                  <a:ext cx="12193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2" name="Rectangle 11"/>
            <p:cNvSpPr/>
            <p:nvPr/>
          </p:nvSpPr>
          <p:spPr>
            <a:xfrm>
              <a:off x="971640" y="3176640"/>
              <a:ext cx="211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עבור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 כלשהו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12"/>
            <p:cNvSpPr/>
            <p:nvPr/>
          </p:nvSpPr>
          <p:spPr>
            <a:xfrm>
              <a:off x="684360" y="3824280"/>
              <a:ext cx="754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ושאר ההסתברויות מתאפסות. זהו מצב שבו </a:t>
              </a:r>
              <a:r>
                <a:rPr b="1" lang="he-IL" sz="2400" spc="-1" strike="noStrike">
                  <a:solidFill>
                    <a:srgbClr val="ffff00"/>
                  </a:solidFill>
                  <a:latin typeface="Arial"/>
                </a:rPr>
                <a:t>אין אי-וודאות</a:t>
              </a: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24"/>
          <p:cNvGrpSpPr/>
          <p:nvPr/>
        </p:nvGrpSpPr>
        <p:grpSpPr>
          <a:xfrm>
            <a:off x="684360" y="4664160"/>
            <a:ext cx="8099280" cy="1169280"/>
            <a:chOff x="684360" y="4664160"/>
            <a:chExt cx="8099280" cy="1169280"/>
          </a:xfrm>
        </p:grpSpPr>
        <p:grpSp>
          <p:nvGrpSpPr>
            <p:cNvPr id="335" name="Group 23"/>
            <p:cNvGrpSpPr/>
            <p:nvPr/>
          </p:nvGrpSpPr>
          <p:grpSpPr>
            <a:xfrm>
              <a:off x="811080" y="4664160"/>
              <a:ext cx="7972560" cy="922320"/>
              <a:chOff x="811080" y="4664160"/>
              <a:chExt cx="7972560" cy="922320"/>
            </a:xfrm>
          </p:grpSpPr>
          <p:sp>
            <p:nvSpPr>
              <p:cNvPr id="336" name="Rectangle 13"/>
              <p:cNvSpPr/>
              <p:nvPr/>
            </p:nvSpPr>
            <p:spPr>
              <a:xfrm>
                <a:off x="4608360" y="4761000"/>
                <a:ext cx="1501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ffff"/>
                    </a:solidFill>
                    <a:latin typeface="Arial"/>
                  </a:rPr>
                  <a:t>אם ורק אם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7" name="Object 14"/>
                  <p:cNvSpPr txBox="1"/>
                  <p:nvPr/>
                </p:nvSpPr>
                <p:spPr>
                  <a:xfrm>
                    <a:off x="6018120" y="4761000"/>
                    <a:ext cx="251640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N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38" name="Rectangle 15"/>
              <p:cNvSpPr/>
              <p:nvPr/>
            </p:nvSpPr>
            <p:spPr>
              <a:xfrm>
                <a:off x="8172360" y="4778280"/>
                <a:ext cx="61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buClr>
                    <a:srgbClr val="ffffff"/>
                  </a:buClr>
                  <a:buSzPct val="8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9" name="Object 16"/>
                  <p:cNvSpPr txBox="1"/>
                  <p:nvPr/>
                </p:nvSpPr>
                <p:spPr>
                  <a:xfrm>
                    <a:off x="2900520" y="4664160"/>
                    <a:ext cx="186660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0" name="Rectangle 17"/>
              <p:cNvSpPr/>
              <p:nvPr/>
            </p:nvSpPr>
            <p:spPr>
              <a:xfrm>
                <a:off x="811080" y="4778280"/>
                <a:ext cx="211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ffff"/>
                    </a:solidFill>
                    <a:latin typeface="Arial"/>
                  </a:rPr>
                  <a:t>לכל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k</a:t>
                </a:r>
                <a:r>
                  <a:rPr b="0" lang="he-IL" sz="2400" spc="-1" strike="noStrike">
                    <a:solidFill>
                      <a:srgbClr val="ffffff"/>
                    </a:solidFill>
                    <a:latin typeface="Arial"/>
                  </a:rPr>
                  <a:t>, כלומר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" name="Rectangle 18"/>
            <p:cNvSpPr/>
            <p:nvPr/>
          </p:nvSpPr>
          <p:spPr>
            <a:xfrm>
              <a:off x="684360" y="5373720"/>
              <a:ext cx="75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ffff00"/>
                  </a:solidFill>
                  <a:latin typeface="Arial"/>
                </a:rPr>
                <a:t>ההתפלגות אחידה</a:t>
              </a: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. זהו מצב של </a:t>
              </a:r>
              <a:r>
                <a:rPr b="1" lang="he-IL" sz="2400" spc="-1" strike="noStrike">
                  <a:solidFill>
                    <a:srgbClr val="ffff00"/>
                  </a:solidFill>
                  <a:latin typeface="Arial"/>
                </a:rPr>
                <a:t>אי-וודאות מקסימלית</a:t>
              </a: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04720" y="272520"/>
            <a:ext cx="664668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ccecff"/>
                </a:solidFill>
                <a:latin typeface="Arial"/>
              </a:rPr>
              <a:t>דוגמא: זריקת קוביה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43" name="Group 11"/>
          <p:cNvGrpSpPr/>
          <p:nvPr/>
        </p:nvGrpSpPr>
        <p:grpSpPr>
          <a:xfrm>
            <a:off x="1763640" y="1665360"/>
            <a:ext cx="7072560" cy="671400"/>
            <a:chOff x="1763640" y="1665360"/>
            <a:chExt cx="7072560" cy="671400"/>
          </a:xfrm>
        </p:grpSpPr>
        <p:sp>
          <p:nvSpPr>
            <p:cNvPr id="344" name="Rectangle 5"/>
            <p:cNvSpPr/>
            <p:nvPr/>
          </p:nvSpPr>
          <p:spPr>
            <a:xfrm>
              <a:off x="7069320" y="1717560"/>
              <a:ext cx="17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המאורעות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6"/>
                <p:cNvSpPr txBox="1"/>
                <p:nvPr/>
              </p:nvSpPr>
              <p:spPr>
                <a:xfrm>
                  <a:off x="1763640" y="1665360"/>
                  <a:ext cx="455292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6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6" name="Group 12"/>
          <p:cNvGrpSpPr/>
          <p:nvPr/>
        </p:nvGrpSpPr>
        <p:grpSpPr>
          <a:xfrm>
            <a:off x="1665360" y="2333520"/>
            <a:ext cx="7170840" cy="1155960"/>
            <a:chOff x="1665360" y="2333520"/>
            <a:chExt cx="7170840" cy="1155960"/>
          </a:xfrm>
        </p:grpSpPr>
        <p:sp>
          <p:nvSpPr>
            <p:cNvPr id="347" name="Rectangle 7"/>
            <p:cNvSpPr/>
            <p:nvPr/>
          </p:nvSpPr>
          <p:spPr>
            <a:xfrm>
              <a:off x="6637320" y="2668680"/>
              <a:ext cx="21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בקוביה אמינה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Object 8"/>
                <p:cNvSpPr txBox="1"/>
                <p:nvPr/>
              </p:nvSpPr>
              <p:spPr>
                <a:xfrm>
                  <a:off x="1665360" y="2333520"/>
                  <a:ext cx="3881520" cy="115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…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6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9" name="Group 14"/>
          <p:cNvGrpSpPr/>
          <p:nvPr/>
        </p:nvGrpSpPr>
        <p:grpSpPr>
          <a:xfrm>
            <a:off x="1690560" y="3551400"/>
            <a:ext cx="7135920" cy="2971800"/>
            <a:chOff x="1690560" y="3551400"/>
            <a:chExt cx="7135920" cy="2971800"/>
          </a:xfrm>
        </p:grpSpPr>
        <p:sp>
          <p:nvSpPr>
            <p:cNvPr id="350" name="Rectangle 9"/>
            <p:cNvSpPr/>
            <p:nvPr/>
          </p:nvSpPr>
          <p:spPr>
            <a:xfrm>
              <a:off x="3527280" y="3551400"/>
              <a:ext cx="529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והאנטרופיה (עם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n</a:t>
              </a: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) יוצאת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Object 10"/>
                <p:cNvSpPr txBox="1"/>
                <p:nvPr/>
              </p:nvSpPr>
              <p:spPr>
                <a:xfrm>
                  <a:off x="1690560" y="4113360"/>
                  <a:ext cx="5580000" cy="24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6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nat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52" name="Picture 15" descr="dice"/>
          <p:cNvPicPr/>
          <p:nvPr/>
        </p:nvPicPr>
        <p:blipFill>
          <a:blip r:embed="rId1"/>
          <a:stretch/>
        </p:blipFill>
        <p:spPr>
          <a:xfrm>
            <a:off x="1368360" y="3333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617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ccecff"/>
                </a:solidFill>
                <a:latin typeface="Arial"/>
              </a:rPr>
              <a:t>המשך דוגמא: קוביה מזויפת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54" name="Group 9"/>
          <p:cNvGrpSpPr/>
          <p:nvPr/>
        </p:nvGrpSpPr>
        <p:grpSpPr>
          <a:xfrm>
            <a:off x="730080" y="1101600"/>
            <a:ext cx="8232840" cy="1155960"/>
            <a:chOff x="730080" y="1101600"/>
            <a:chExt cx="8232840" cy="1155960"/>
          </a:xfrm>
        </p:grpSpPr>
        <p:sp>
          <p:nvSpPr>
            <p:cNvPr id="355" name="Rectangle 5"/>
            <p:cNvSpPr/>
            <p:nvPr/>
          </p:nvSpPr>
          <p:spPr>
            <a:xfrm>
              <a:off x="6012000" y="1419120"/>
              <a:ext cx="295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נניח כי הקוביה מזוייפת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Object 6"/>
                <p:cNvSpPr txBox="1"/>
                <p:nvPr/>
              </p:nvSpPr>
              <p:spPr>
                <a:xfrm>
                  <a:off x="730080" y="1101600"/>
                  <a:ext cx="4702320" cy="115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 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…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6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Group 11"/>
          <p:cNvGrpSpPr/>
          <p:nvPr/>
        </p:nvGrpSpPr>
        <p:grpSpPr>
          <a:xfrm>
            <a:off x="431640" y="2538360"/>
            <a:ext cx="8531280" cy="2389320"/>
            <a:chOff x="431640" y="2538360"/>
            <a:chExt cx="8531280" cy="2389320"/>
          </a:xfrm>
        </p:grpSpPr>
        <p:sp>
          <p:nvSpPr>
            <p:cNvPr id="358" name="Rectangle 7"/>
            <p:cNvSpPr/>
            <p:nvPr/>
          </p:nvSpPr>
          <p:spPr>
            <a:xfrm>
              <a:off x="6188040" y="2538360"/>
              <a:ext cx="27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ffff"/>
                  </a:solidFill>
                  <a:latin typeface="Arial"/>
                </a:rPr>
                <a:t>האנטרופיה יוצאת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Object 8"/>
                <p:cNvSpPr txBox="1"/>
                <p:nvPr/>
              </p:nvSpPr>
              <p:spPr>
                <a:xfrm>
                  <a:off x="431640" y="2673360"/>
                  <a:ext cx="8101080" cy="22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7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nat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0" name="Rectangle 10"/>
          <p:cNvSpPr/>
          <p:nvPr/>
        </p:nvSpPr>
        <p:spPr>
          <a:xfrm>
            <a:off x="968400" y="5121360"/>
            <a:ext cx="79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Arial"/>
              </a:rPr>
              <a:t>משמעות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: כשהקוביה מזוייפת מידת ההפתעה הממוצעת על פני הרבה הטלות קטנה יות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ren Shriki</cp:lastModifiedBy>
  <dcterms:modified xsi:type="dcterms:W3CDTF">2016-11-17T04:43:46Z</dcterms:modified>
  <cp:revision>1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7</vt:r8>
  </property>
  <property fmtid="{D5CDD505-2E9C-101B-9397-08002B2CF9AE}" pid="3" name="Version">
    <vt:r8>1</vt:r8>
  </property>
</Properties>
</file>